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745E-16AF-4B54-91F2-2C2B9947F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DD95-9150-47C4-AEEA-8E2659ED9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B348-354A-4A82-BCA9-EEA720020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4B0F-1865-4D5B-9EE6-E169087D9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1682-1AA3-41EC-8999-CEE606A5C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15DF-A5C2-4C3A-B2A2-08B550F2D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E753-2D54-48BD-A210-D9855B045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B505-F0E9-4740-994A-09BCCB681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uld include a variety of formal and informal assessments done throughout th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50EE-5599-4BF6-86C5-8865A8C26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ive is scored by rubr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3B60-08DE-4A36-B696-51359DA4C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for each new topic or skill. Copy and paste a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EF64-6BC4-40D0-84F0-F43D3AB14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and paste a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92B7-404F-470A-92E8-3C66C9217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C230-FA26-439F-9229-C29213FF9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DFBA-AF30-4AD9-9B7F-AAF074967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5952-8DDE-490F-B99D-798CC3039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6F4-3A53-426D-A4B0-19C101AF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AC3-916A-4533-83F9-25B8EDA5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8CD-EA4F-4C59-B6A7-F3F8A5B5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73E-B77C-4E48-88A9-8F541192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35EA-6845-4E93-9B72-61E2CC80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655C-605A-43CB-94B1-FD556192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058E-2749-4B57-ABD2-484DEB75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595-05CA-467A-A41F-17A1FC34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F871-E579-4807-B21D-7C60A8B1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511E-51BA-4DDF-8C18-DD396626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CB93-B141-4057-8632-11718D6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BB6-5967-420E-8C06-B18ADA3B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8069-F3ED-4A20-8173-06FAB84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45B-42A8-45CC-8393-C86D5ACF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AFE2-41B5-488B-A3C4-6D120B08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F8B8-9D30-4030-97C1-0EFCE211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04C8-4CD3-4532-B41D-AB375EDD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08753-4699-4574-904B-70AAE44C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A2C46-E5D2-4967-87DD-721F8B7C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C5B58-6A22-41C2-AAF7-0D869E96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D63AE-A2D4-4D8C-A5CA-B874A08A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AD478-CDBD-4034-A1BA-A0774BE9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0D0-E5DB-4A09-9108-12DB2DC0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1AE56-402E-4A46-B509-45141464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DA805-3848-4A63-9011-8B79252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F7286-89D9-4BBF-A8BB-866ABDDD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D7F99-80D7-4086-B8DB-BF041163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BCA31-36F7-456A-B694-ABC72D64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D6BBD-7B60-4CE2-8DED-57A3D3E8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389EC-C499-42CD-B61F-02403852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FE89-6BCE-45F5-890B-0A3A40ED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03A8-25B2-4AAF-A741-5166FA15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7D5F9-D6D4-463D-8336-20898A2C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302-B655-4D12-8591-C29C3B6A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238E-2056-400F-A689-883309F5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DE00-E5F4-4BA4-A198-2B43E52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D23E7-B62C-408C-AEC5-6E2CFE28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490B-DFA5-43EE-AAD4-36D59AB4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0A19-8E60-40B7-A4B0-D5F23FD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DC81-4A1F-4F47-A767-CDF7F95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45D89-683D-41BC-B44D-6A6E56F1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B6BF-DD0D-44C4-8941-CFEE9D57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1E8A-503C-41BD-ACA3-350033BA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067-ACF3-4615-9864-8256A2A4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772-64D0-4ACF-BA6A-B8542057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C45-3575-49A2-9674-584480E0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B22-CC22-455B-876E-A209749D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476-25EF-42F2-96D5-F368882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D6A8-8F70-4660-9A06-120C4F4B7DC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000C-1332-4EA7-8F22-F3553E2E125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A952-CD09-478C-8E57-8E880D3825B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A486-A098-4623-9F00-6A2F8C1C9CF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999000" y="1066680"/>
            <a:ext cx="2108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Unit Titl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Straight Connector 5"/>
          <p:cNvSpPr/>
          <p:nvPr/>
        </p:nvSpPr>
        <p:spPr>
          <a:xfrm>
            <a:off x="304920" y="1752480"/>
            <a:ext cx="8229600" cy="0"/>
          </a:xfrm>
          <a:prstGeom prst="line">
            <a:avLst/>
          </a:prstGeom>
          <a:ln cap="rnd" w="28440">
            <a:solidFill>
              <a:srgbClr val="3e3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6049440" y="19051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uthor nam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6049440" y="236232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uthor schoo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6131520" y="28195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Grad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762120"/>
          <a:ext cx="8610480" cy="579096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4334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0713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52280" y="914400"/>
          <a:ext cx="8763120" cy="571500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960"/>
                <a:gridCol w="2190600"/>
              </a:tblGrid>
              <a:tr h="291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0843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762120"/>
          <a:ext cx="8686800" cy="586728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6640"/>
                <a:gridCol w="1738440"/>
              </a:tblGrid>
              <a:tr h="29988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it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1127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28600" y="762120"/>
          <a:ext cx="8610480" cy="5867280"/>
        </p:xfrm>
        <a:graphic>
          <a:graphicData uri="http://schemas.openxmlformats.org/drawingml/2006/table">
            <a:tbl>
              <a:tblPr/>
              <a:tblGrid>
                <a:gridCol w="2043000"/>
                <a:gridCol w="2125800"/>
                <a:gridCol w="2225520"/>
                <a:gridCol w="2216160"/>
              </a:tblGrid>
              <a:tr h="48240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hink-Tac-T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opic 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opic 2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opic 3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2"/>
          <p:cNvSpPr/>
          <p:nvPr/>
        </p:nvSpPr>
        <p:spPr>
          <a:xfrm>
            <a:off x="380880" y="1066680"/>
            <a:ext cx="845820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e a Student Lead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elp your fellow classmates! Create a product that goes along with our current unit that will help other students understand and learn about the topic(s)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ossible products include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Make a bulletin board or poster highlighting important facts about each topi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roduce an audio/visual podcast or PowerPoint slide show highlighting important facts (with examples) about each topi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reate a web page, web log, or wiki that students can use as a learning/study resou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Make a “…for Dummies” book, providing examples and practice (with answer key) that other students can use as a resou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Make a skit/commercial advertising a special problem-solving strate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Invent a game that teaches important concepts to the play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Write a song to help students remember important points (you will be asked to perform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reate your own idea and get teacher permission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Straight Connector 3"/>
          <p:cNvSpPr/>
          <p:nvPr/>
        </p:nvSpPr>
        <p:spPr>
          <a:xfrm>
            <a:off x="380880" y="1523880"/>
            <a:ext cx="8229600" cy="0"/>
          </a:xfrm>
          <a:prstGeom prst="line">
            <a:avLst/>
          </a:prstGeom>
          <a:ln cap="rnd" w="28440">
            <a:solidFill>
              <a:srgbClr val="3e3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04920" y="838080"/>
          <a:ext cx="8534160" cy="579132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-Century Learning/Technology/Workplace CSOs Address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udent misconceptions to watch fo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ross-curricular integr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echnology Usag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Vocabulary Develop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eacher notes/reflec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52280" y="914400"/>
          <a:ext cx="8763120" cy="5567400"/>
        </p:xfrm>
        <a:graphic>
          <a:graphicData uri="http://schemas.openxmlformats.org/drawingml/2006/table">
            <a:tbl>
              <a:tblPr/>
              <a:tblGrid>
                <a:gridCol w="4456080"/>
                <a:gridCol w="4307040"/>
              </a:tblGrid>
              <a:tr h="426960">
                <a:tc gridSpan="2"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age 1 – Identify Desired 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440">
                <a:tc gridSpan="2"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stablished Goal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[What relevant goals (CSOs, course objectives, learning outcomes) will be addressed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736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Understandings: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udents will understand that…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ssential Question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364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udents will know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udents will be able to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914400"/>
          <a:ext cx="8763120" cy="5505480"/>
        </p:xfrm>
        <a:graphic>
          <a:graphicData uri="http://schemas.openxmlformats.org/drawingml/2006/table">
            <a:tbl>
              <a:tblPr/>
              <a:tblGrid>
                <a:gridCol w="4456080"/>
                <a:gridCol w="4307040"/>
              </a:tblGrid>
              <a:tr h="426960">
                <a:tc gridSpan="2"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age 2 – Determine Acceptable Evid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852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erformance Task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hrough what authentic tasks will students demonstrate understanding?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By what criteria will performances of understanding be judged?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Other Evidenc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hrough what other evidence will students demonstrate achievement?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28600" y="838080"/>
          <a:ext cx="8686800" cy="5908680"/>
        </p:xfrm>
        <a:graphic>
          <a:graphicData uri="http://schemas.openxmlformats.org/drawingml/2006/table">
            <a:tbl>
              <a:tblPr/>
              <a:tblGrid>
                <a:gridCol w="1736640"/>
                <a:gridCol w="6950160"/>
              </a:tblGrid>
              <a:tr h="427320">
                <a:tc gridSpan="2"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age 3 – Plan Learning Exercises and 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1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ac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udents will show what they already know b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Pre-Test or hands-on demonstration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cha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We will address deficiencies in vocabulary, knowledge and skills b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Individual or small-group instruction – practice sheets, games, graphic organizer, manipulatives, etc.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o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udents will prove their proficiency of this skill b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eacher questioning, hands-on demonstration, review, explain/discuss/defend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re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Calibri"/>
                        </a:rPr>
                        <a:t>Only afte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 proving their proficiency, students will apply and extend what they know b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authentic tasks and projects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ast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Post-test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28600" y="762120"/>
          <a:ext cx="8686800" cy="5376600"/>
        </p:xfrm>
        <a:graphic>
          <a:graphicData uri="http://schemas.openxmlformats.org/drawingml/2006/table">
            <a:tbl>
              <a:tblPr/>
              <a:tblGrid>
                <a:gridCol w="1747800"/>
                <a:gridCol w="6939000"/>
              </a:tblGrid>
              <a:tr h="500040">
                <a:tc gridSpan="2"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cquisition planning form for a topic or skill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ojected duration: [lesson length]                                                   Begin Dat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sential Ques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tivating Strate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28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aching Strate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57240" rIns="57240" tIns="57240" bIns="572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ifferent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mmarizing Strate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228600" y="617220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Materials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28600" y="762120"/>
          <a:ext cx="8686800" cy="5486400"/>
        </p:xfrm>
        <a:graphic>
          <a:graphicData uri="http://schemas.openxmlformats.org/drawingml/2006/table">
            <a:tbl>
              <a:tblPr/>
              <a:tblGrid>
                <a:gridCol w="1747800"/>
                <a:gridCol w="6939000"/>
              </a:tblGrid>
              <a:tr h="662040">
                <a:tc gridSpan="2"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on-Acquisition planning form for a topic or skill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ojected duration: [lesson length]                  Begin Dat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sential Ques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1880"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aching Strate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Box 2"/>
          <p:cNvSpPr/>
          <p:nvPr/>
        </p:nvSpPr>
        <p:spPr>
          <a:xfrm>
            <a:off x="228600" y="632448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Materials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28600" y="685800"/>
          <a:ext cx="8686800" cy="5943600"/>
        </p:xfrm>
        <a:graphic>
          <a:graphicData uri="http://schemas.openxmlformats.org/drawingml/2006/table">
            <a:tbl>
              <a:tblPr/>
              <a:tblGrid>
                <a:gridCol w="2171880"/>
                <a:gridCol w="6514920"/>
              </a:tblGrid>
              <a:tr h="399960">
                <a:tc>
                  <a:txBody>
                    <a:bodyPr lIns="59040" rIns="59040" tIns="59040" bIns="59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ernbe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9040" rIns="59040" tIns="59040" bIns="59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ssignments and Assess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</a:tr>
              <a:tr h="1314720">
                <a:tc>
                  <a:txBody>
                    <a:bodyPr lIns="59040" rIns="59040" tIns="59040" bIns="59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naly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9040" rIns="59040" tIns="59040" bIns="59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how the parts of _________ and how they wor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lain why _______ works the way it do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iagram how __________ affects __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dentify the key parts of _____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esent a step-by-step approach to _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760">
                <a:tc>
                  <a:txBody>
                    <a:bodyPr lIns="59040" rIns="59040" tIns="59040" bIns="59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re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9040" rIns="59040" tIns="59040" bIns="59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monstrate how someone uses ________ in their life or wor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how how we could apply _____ to solve this real life problem 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ased on your own experience, explain how _____ can be us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Here’s a problem at school, ________. Using your knowledge of ______________, develop a plan to address the proble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59040" rIns="59040" tIns="59040" bIns="59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ac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9040" rIns="59040" tIns="59040" bIns="59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ind a new way to show 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se unusual materials to explain 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se humor to show ____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lain (show) a new and better way to 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ake connections between _____ and _____ to help us understand 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ecome a ____ and use your “new” perspectives to help us think about 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04920" y="762120"/>
          <a:ext cx="8610480" cy="5838840"/>
        </p:xfrm>
        <a:graphic>
          <a:graphicData uri="http://schemas.openxmlformats.org/drawingml/2006/table">
            <a:tbl>
              <a:tblPr/>
              <a:tblGrid>
                <a:gridCol w="2152440"/>
                <a:gridCol w="6458040"/>
              </a:tblGrid>
              <a:tr h="39204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ardner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ssignments and Assess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ingui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Word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V/radio ad, debate, crossword, letters, limericks, similes, speeches, story problems, written instru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ogical-Mathema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Number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ause/effect, charts, coded message, graphic org., mind map, mnemonics, sequences, lab, calculator instru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pa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Picture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odel, book cover, collage, comic strip, flow chart, illustration, mobile, Pictionary, poster, puzzle, Venn diag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inesth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Body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kit or play, charades, dance, games, sign lang., role-play, manipulatives demonstration, video 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us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Music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heer, composition, jingle/melody, music mnemonics, poem, rap, s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rpersona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People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ircle of knowledge, communication game, cooperative product, “each one teach one”, jigsaw, interview, role 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ra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Self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iary/journal, personal application scenario, photo essay/slideshow, reflections, summ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838080"/>
          <a:ext cx="8686800" cy="5562720"/>
        </p:xfrm>
        <a:graphic>
          <a:graphicData uri="http://schemas.openxmlformats.org/drawingml/2006/table">
            <a:tbl>
              <a:tblPr/>
              <a:tblGrid>
                <a:gridCol w="2171880"/>
                <a:gridCol w="6514920"/>
              </a:tblGrid>
              <a:tr h="37008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loom’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ssignments and Assess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</a:tr>
              <a:tr h="8697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rea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film, song, new game, project, plan, media product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valua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debate, evaluation, persuasive speech, predict, Venn diagram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nalyz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graph, survey, mobile, interview, debate,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pply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pictograph, illustration, simulation, presentation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summary, show and tell, outline, paraphrase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membe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quiz, test, definition, worksheet, list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41:40Z</dcterms:created>
  <dc:creator>krberry</dc:creator>
  <dc:description/>
  <dc:language>en-US</dc:language>
  <cp:lastModifiedBy>krberry</cp:lastModifiedBy>
  <dcterms:modified xsi:type="dcterms:W3CDTF">2009-08-06T22:16:21Z</dcterms:modified>
  <cp:revision>13</cp:revision>
  <dc:subject/>
  <dc:title>Slide 1</dc:title>
</cp:coreProperties>
</file>